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440-0F4D-4BAE-A28D-75228DE4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695-D0FF-444A-87BF-D34A03D8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0025-9BDB-4AF5-9BFB-57A39A9E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C00-EFBC-4EBB-B24B-156A0523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285B-A595-4839-A3EC-39DB5322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FBBE-DC98-434F-A857-BBDA7C63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0E60-8D1E-40BB-82C8-C2041693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9F19-2A12-4C70-8F70-B707A0A6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103B-6E89-423C-824E-0797A9BC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D714-DC95-41E9-AA72-C0F37150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2AC2-1394-49CC-A3B0-964F7791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688-CB03-40DE-B17A-93B505D0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A16A-56F6-4398-9D8D-AEA56B62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AA5C-B96B-40D1-9FA2-3B620B99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EB1D-2550-4A78-BE02-61625A0A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1EE9-E0E4-4FE3-A9F2-A5B86BE5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BC98-D883-49C1-957C-7AC94246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82C-6464-4EB0-826B-C525D747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C1B-2C58-4CB1-8BA5-CF714FC1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D2B-C1DC-4082-AA50-0F4702CC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814-D34A-445A-9469-13EFC866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E6A-06FB-4C61-BD9B-15F82B7D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510-0869-4D69-BF67-1415E4D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B3C-47DD-47E9-B28B-9BFB14BA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583D-4388-4654-9991-CC047E6BDA8B}" type="datetime3">
              <a:rPr b="0" lang="en-GB" sz="1000" spc="-1" strike="noStrike">
                <a:solidFill>
                  <a:srgbClr val="ffff00"/>
                </a:solidFill>
                <a:latin typeface="Comic Sans MS"/>
              </a:rPr>
              <a:t>29 July 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2003-145D-4FAA-8498-3D567C67946D}" type="slidenum">
              <a:rPr b="0" lang="en-GB" sz="16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6C99-0B1E-4055-8C05-9CAD80D27489}" type="datetime3">
              <a:rPr b="0" lang="en-GB" sz="1000" spc="-1" strike="noStrike">
                <a:solidFill>
                  <a:srgbClr val="ffff00"/>
                </a:solidFill>
                <a:latin typeface="Comic Sans MS"/>
              </a:rPr>
              <a:t>29 July 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7DC2-E00D-4645-80F9-337A8148B0AB}" type="slidenum">
              <a:rPr b="0" lang="en-GB" sz="10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1.gif"/><Relationship Id="rId6" Type="http://schemas.openxmlformats.org/officeDocument/2006/relationships/image" Target="../media/image5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3rd Year Starter Questio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6200000">
            <a:off x="-1560600" y="409932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. Andrew’s Seco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560" y="112536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41760" y="2085840"/>
          <a:ext cx="1923840" cy="66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41760" y="2085840"/>
                    <a:ext cx="19238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006200" y="213984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Q1.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Cal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2882880"/>
            <a:ext cx="763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Q2.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If 1 bar of chocolate costs 45p. How much w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100 bars cost. Give your answer in £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73440" y="4305240"/>
          <a:ext cx="352440" cy="41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73440" y="4305240"/>
                    <a:ext cx="352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136160" y="369720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Q3.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Find the order of rotation of the le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8240" y="483552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Q4.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549600" y="5249880"/>
          <a:ext cx="158760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49600" y="5249880"/>
                    <a:ext cx="15876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eated by Mr. Lafferty Maths Dept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3818E37-33D7-4870-AFC6-D198FE221D7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im of the Less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1560600" y="409932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. Andrew’s Seco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560" y="112536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55880" y="3252960"/>
            <a:ext cx="75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work ou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mple intervals from a given sc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eated by Mr. Lafferty Maths Dept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090530F-59C0-49D6-8077-EEA141491DF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793520" y="2360520"/>
            <a:ext cx="5127120" cy="722160"/>
            <a:chOff x="1793520" y="2360520"/>
            <a:chExt cx="5127120" cy="722160"/>
          </a:xfrm>
        </p:grpSpPr>
        <p:grpSp>
          <p:nvGrpSpPr>
            <p:cNvPr id="130" name=""/>
            <p:cNvGrpSpPr/>
            <p:nvPr/>
          </p:nvGrpSpPr>
          <p:grpSpPr>
            <a:xfrm>
              <a:off x="1930320" y="2360520"/>
              <a:ext cx="1579680" cy="306360"/>
              <a:chOff x="1930320" y="2360520"/>
              <a:chExt cx="1579680" cy="306360"/>
            </a:xfrm>
          </p:grpSpPr>
          <p:sp>
            <p:nvSpPr>
              <p:cNvPr id="131" name=""/>
              <p:cNvSpPr/>
              <p:nvPr/>
            </p:nvSpPr>
            <p:spPr>
              <a:xfrm>
                <a:off x="193032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43160" y="23605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6356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78200" y="23605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9392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511440" y="2360520"/>
              <a:ext cx="1579680" cy="306360"/>
              <a:chOff x="3511440" y="2360520"/>
              <a:chExt cx="1579680" cy="306360"/>
            </a:xfrm>
          </p:grpSpPr>
          <p:sp>
            <p:nvSpPr>
              <p:cNvPr id="137" name=""/>
              <p:cNvSpPr/>
              <p:nvPr/>
            </p:nvSpPr>
            <p:spPr>
              <a:xfrm>
                <a:off x="351144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24280" y="23605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4468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59320" y="23605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77504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092560" y="2360520"/>
              <a:ext cx="1579680" cy="306360"/>
              <a:chOff x="5092560" y="2360520"/>
              <a:chExt cx="1579680" cy="306360"/>
            </a:xfrm>
          </p:grpSpPr>
          <p:sp>
            <p:nvSpPr>
              <p:cNvPr id="143" name=""/>
              <p:cNvSpPr/>
              <p:nvPr/>
            </p:nvSpPr>
            <p:spPr>
              <a:xfrm>
                <a:off x="509256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05400" y="23605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2580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40440" y="23605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56160" y="23605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793520" y="2714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90760" y="2714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77640" y="2714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7840" y="2714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067480" y="1897200"/>
            <a:ext cx="519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me scales do not show all the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74680" y="3002040"/>
            <a:ext cx="697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ou must work out what number goes next to each 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n the sc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82400" y="3890880"/>
            <a:ext cx="72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ow do we work out the numbers to go beside each mark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41480" y="677880"/>
            <a:ext cx="16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40520" y="4422600"/>
            <a:ext cx="60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tep 1: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ount the number of steps between numb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56160" y="4879800"/>
            <a:ext cx="51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 this case it takes 5 steps to get from 0 to 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9200" y="536256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tep 2: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o the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5600" y="5732640"/>
            <a:ext cx="39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“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e difference between number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23040" y="5732640"/>
          <a:ext cx="3808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3040" y="573264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1040" y="573264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by the  step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60920" y="6100920"/>
          <a:ext cx="289548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0920" y="6100920"/>
                    <a:ext cx="28954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116800" y="2635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83200" y="2635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6280" y="2635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3800" y="2635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574800" y="2635200"/>
            <a:ext cx="1387800" cy="307080"/>
            <a:chOff x="3574800" y="2635200"/>
            <a:chExt cx="1387800" cy="307080"/>
          </a:xfrm>
        </p:grpSpPr>
        <p:sp>
          <p:nvSpPr>
            <p:cNvPr id="170" name=""/>
            <p:cNvSpPr/>
            <p:nvPr/>
          </p:nvSpPr>
          <p:spPr>
            <a:xfrm>
              <a:off x="357480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5568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504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776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75000" y="2635200"/>
            <a:ext cx="1387800" cy="307080"/>
            <a:chOff x="5175000" y="2635200"/>
            <a:chExt cx="1387800" cy="307080"/>
          </a:xfrm>
        </p:grpSpPr>
        <p:sp>
          <p:nvSpPr>
            <p:cNvPr id="175" name=""/>
            <p:cNvSpPr/>
            <p:nvPr/>
          </p:nvSpPr>
          <p:spPr>
            <a:xfrm>
              <a:off x="517500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5588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3524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77960" y="2635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16200000">
            <a:off x="-1560600" y="409932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. Andrew’s Seco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0560" y="112536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505320" y="2349360"/>
            <a:ext cx="0" cy="317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092560" y="2349360"/>
            <a:ext cx="0" cy="317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8236080" y="5462640"/>
            <a:ext cx="672840" cy="947160"/>
            <a:chOff x="8236080" y="5462640"/>
            <a:chExt cx="672840" cy="947160"/>
          </a:xfrm>
        </p:grpSpPr>
        <p:pic>
          <p:nvPicPr>
            <p:cNvPr id="186" name="" descr=""/>
            <p:cNvPicPr/>
            <p:nvPr/>
          </p:nvPicPr>
          <p:blipFill>
            <a:blip r:embed="rId7"/>
            <a:stretch/>
          </p:blipFill>
          <p:spPr>
            <a:xfrm>
              <a:off x="8378640" y="5462640"/>
              <a:ext cx="46800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Puzzle1"/>
            <p:cNvSpPr/>
            <p:nvPr/>
          </p:nvSpPr>
          <p:spPr>
            <a:xfrm>
              <a:off x="8236080" y="6002280"/>
              <a:ext cx="672840" cy="40752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eated by Mr. Lafferty Maths Dept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4E977F5-02E4-4383-AE48-7400F25AC97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flipV="1">
            <a:off x="6184800" y="2857320"/>
            <a:ext cx="0" cy="36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079960" y="2857320"/>
            <a:ext cx="0" cy="36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74840" y="2857320"/>
            <a:ext cx="0" cy="36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123280" y="2563920"/>
            <a:ext cx="5258160" cy="722160"/>
            <a:chOff x="2123280" y="2563920"/>
            <a:chExt cx="5258160" cy="722160"/>
          </a:xfrm>
        </p:grpSpPr>
        <p:grpSp>
          <p:nvGrpSpPr>
            <p:cNvPr id="192" name=""/>
            <p:cNvGrpSpPr/>
            <p:nvPr/>
          </p:nvGrpSpPr>
          <p:grpSpPr>
            <a:xfrm>
              <a:off x="2235240" y="2563920"/>
              <a:ext cx="1579680" cy="306360"/>
              <a:chOff x="2235240" y="2563920"/>
              <a:chExt cx="1579680" cy="306360"/>
            </a:xfrm>
          </p:grpSpPr>
          <p:sp>
            <p:nvSpPr>
              <p:cNvPr id="193" name=""/>
              <p:cNvSpPr/>
              <p:nvPr/>
            </p:nvSpPr>
            <p:spPr>
              <a:xfrm>
                <a:off x="223524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48080" y="25639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6848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83120" y="25639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9884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816360" y="2563920"/>
              <a:ext cx="1579680" cy="306360"/>
              <a:chOff x="3816360" y="2563920"/>
              <a:chExt cx="1579680" cy="306360"/>
            </a:xfrm>
          </p:grpSpPr>
          <p:sp>
            <p:nvSpPr>
              <p:cNvPr id="199" name=""/>
              <p:cNvSpPr/>
              <p:nvPr/>
            </p:nvSpPr>
            <p:spPr>
              <a:xfrm>
                <a:off x="381636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129200" y="25639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4960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64240" y="25639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07996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397480" y="2563920"/>
              <a:ext cx="1579680" cy="306360"/>
              <a:chOff x="5397480" y="2563920"/>
              <a:chExt cx="1579680" cy="30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539748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10320" y="25639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03072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345360" y="2563920"/>
                <a:ext cx="31572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61080" y="2563920"/>
                <a:ext cx="316080" cy="3063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2123280" y="2917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£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20520" y="2917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£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7400" y="2917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£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07600" y="2917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£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741480" y="677880"/>
            <a:ext cx="16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-1560600" y="409932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. Andrew’s Seco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50560" y="112536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021400" y="3394080"/>
            <a:ext cx="6486840" cy="1258920"/>
            <a:chOff x="2021400" y="3394080"/>
            <a:chExt cx="6486840" cy="1258920"/>
          </a:xfrm>
        </p:grpSpPr>
        <p:sp>
          <p:nvSpPr>
            <p:cNvPr id="219" name=""/>
            <p:cNvSpPr/>
            <p:nvPr/>
          </p:nvSpPr>
          <p:spPr>
            <a:xfrm>
              <a:off x="2021400" y="3394080"/>
              <a:ext cx="606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Step 1:</a:t>
              </a: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Count the number of steps between number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18240" y="3851280"/>
              <a:ext cx="269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Step 2:</a:t>
              </a: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Do the divis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63960" y="4281480"/>
              <a:ext cx="39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“ </a:t>
              </a: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the difference between numbers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22" name=""/>
            <p:cNvGraphicFramePr/>
            <p:nvPr/>
          </p:nvGraphicFramePr>
          <p:xfrm>
            <a:off x="5905440" y="4272120"/>
            <a:ext cx="38124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05440" y="4272120"/>
                      <a:ext cx="3812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"/>
            <p:cNvSpPr/>
            <p:nvPr/>
          </p:nvSpPr>
          <p:spPr>
            <a:xfrm>
              <a:off x="6155640" y="4272120"/>
              <a:ext cx="23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by the  step numb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158200" y="201456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 the values of the arr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7760" y="4927680"/>
          <a:ext cx="152712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7760" y="4927680"/>
                    <a:ext cx="1527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 flipV="1">
            <a:off x="3809880" y="2552760"/>
            <a:ext cx="0" cy="317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397480" y="2552760"/>
            <a:ext cx="0" cy="317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6320" y="498168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tep 1 &amp;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99720" y="31813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£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78280" y="3181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£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59080" y="3181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£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eated by Mr. Lafferty Maths Dept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3A9C545-2A29-4FF3-9461-5A344D92DA4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741480" y="677880"/>
            <a:ext cx="16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-1560600" y="409932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. Andrew’s Second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50560" y="112536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15360" y="2589120"/>
            <a:ext cx="5476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Your turn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age 46 Exercise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Worksheet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eated by Mr. Lafferty Maths Dept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A003007-1855-48D8-983A-7D79D2ABD14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17:26Z</dcterms:created>
  <dc:creator>Bernie Lafferty</dc:creator>
  <dc:description/>
  <dc:language>en-US</dc:language>
  <cp:lastModifiedBy>Bernie Lafferty</cp:lastModifiedBy>
  <dcterms:modified xsi:type="dcterms:W3CDTF">2006-05-04T10:48:28Z</dcterms:modified>
  <cp:revision>9</cp:revision>
  <dc:subject/>
  <dc:title>Slide 1</dc:title>
</cp:coreProperties>
</file>